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4A6-286F-499F-8565-5C799382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CEF-39C9-4736-BC26-B913C45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77A-FF24-4B87-A7BC-84CD1CC79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08B-3106-4DD7-ADCC-30193547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153-4430-4AF6-8F2B-88B3B23B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B1F-D67C-4D99-A0CE-E0075B33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45D-3248-48DD-B950-C84945B1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7A5-A659-4A3A-9D1F-6DC8203E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0B3-E65B-4089-AD27-E0754EE4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B84-353E-485F-9AAE-E7DC8952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161-F983-4E1E-AB44-DED60705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41C-92D0-46EF-B923-C234BFE5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21A0-C44C-4DD8-AAC7-CDBF29F11F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EE2D-AEDA-4910-AE17-C2D14E523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ebr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840" y="1981080"/>
            <a:ext cx="808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er the following numb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greatest to lea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/5,  0.5,  1.03,  8/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9280" y="207180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03,  8/10,  3/5,  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760" y="1932120"/>
            <a:ext cx="822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st metric uni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 to weigh a sm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ce of can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5680" y="2438280"/>
            <a:ext cx="17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362320"/>
            <a:ext cx="8153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Jake planted a tree 1.5 meters tall. How many centimeters tall is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3400" y="19051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3623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150 c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447560"/>
            <a:ext cx="1066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Mr. Dillon bought a bag of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ranges that weigh 96 ounces.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many pounds is thi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br>
              <a:rPr sz="40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p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6160" y="2666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89280"/>
            <a:ext cx="90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ook the Parson Fami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hour 50 minutes to drive to the shore. They stayed for 5 hours 20 minutes. It took them 2 hours 5 minutes to drive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were they gone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360" y="2365200"/>
            <a:ext cx="53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 hours 15 minut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133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eral eight million, forty seven thousand, five hundred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25416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3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ea of a square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4 sq ft. What is its perimeter in yar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86000"/>
            <a:ext cx="75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438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6 y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1905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14300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line is perpendicular to line 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45124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name of a three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mensional figure with six square f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5146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860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many more lines of symmetry does a square have than a rectang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14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4724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752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done to the rho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572000"/>
            <a:ext cx="75960" cy="76320"/>
          </a:xfrm>
          <a:custGeom>
            <a:avLst/>
            <a:gdLst>
              <a:gd name="textAreaLeft" fmla="*/ 27360 w 75960"/>
              <a:gd name="textAreaRight" fmla="*/ 48600 w 75960"/>
              <a:gd name="textAreaTop" fmla="*/ 27360 h 76320"/>
              <a:gd name="textAreaBottom" fmla="*/ 489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191120"/>
            <a:ext cx="1904760" cy="76176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167400 h 761760"/>
              <a:gd name="textAreaBottom" fmla="*/ 594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352680"/>
            <a:ext cx="2895480" cy="152424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35812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809880"/>
            <a:ext cx="2590920" cy="914400"/>
          </a:xfrm>
          <a:prstGeom prst="parallelogram">
            <a:avLst>
              <a:gd name="adj" fmla="val 70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657600"/>
            <a:ext cx="1447920" cy="6858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076640" y="2628360"/>
            <a:ext cx="3276720" cy="426744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938520 h 4267440"/>
              <a:gd name="textAreaBottom" fmla="*/ 332892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23619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2670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514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895480"/>
            <a:ext cx="1523880" cy="8384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876920"/>
            <a:ext cx="914400" cy="60948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257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666880"/>
            <a:ext cx="2971800" cy="152424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50532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895480"/>
            <a:ext cx="3200400" cy="2210040"/>
          </a:xfrm>
          <a:custGeom>
            <a:avLst/>
            <a:gdLst>
              <a:gd name="textAreaLeft" fmla="*/ 703800 w 3200400"/>
              <a:gd name="textAreaRight" fmla="*/ 2496600 w 3200400"/>
              <a:gd name="textAreaTop" fmla="*/ 486000 h 2210040"/>
              <a:gd name="textAreaBottom" fmla="*/ 17240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14800"/>
            <a:ext cx="2666880" cy="2286000"/>
          </a:xfrm>
          <a:custGeom>
            <a:avLst/>
            <a:gdLst>
              <a:gd name="textAreaLeft" fmla="*/ 586440 w 2666880"/>
              <a:gd name="textAreaRight" fmla="*/ 2080440 w 26668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295280" y="1219320"/>
            <a:ext cx="5638680" cy="2286000"/>
          </a:xfrm>
          <a:prstGeom prst="leftArrow">
            <a:avLst>
              <a:gd name="adj1" fmla="val 50000"/>
              <a:gd name="adj2" fmla="val 616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828800" y="114300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419720"/>
            <a:ext cx="1676520" cy="1295280"/>
          </a:xfrm>
          <a:prstGeom prst="parallelogram">
            <a:avLst>
              <a:gd name="adj" fmla="val 323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715000"/>
            <a:ext cx="1214640" cy="914400"/>
          </a:xfrm>
          <a:prstGeom prst="parallelogram">
            <a:avLst>
              <a:gd name="adj" fmla="val 332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495680"/>
            <a:ext cx="2210040" cy="838440"/>
          </a:xfrm>
          <a:prstGeom prst="parallelogram">
            <a:avLst>
              <a:gd name="adj" fmla="val 658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29000" y="4876920"/>
            <a:ext cx="2286000" cy="1295280"/>
          </a:xfrm>
          <a:prstGeom prst="parallelogram">
            <a:avLst>
              <a:gd name="adj" fmla="val 44122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3429000" y="3123720"/>
            <a:ext cx="2362320" cy="1219320"/>
          </a:xfrm>
          <a:prstGeom prst="parallelogram">
            <a:avLst>
              <a:gd name="adj" fmla="val 48435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84520" y="2357280"/>
            <a:ext cx="38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6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047,5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60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73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solid. How many faces,  vertices, and edges are there on this three dimensional fig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81160" y="4195800"/>
            <a:ext cx="2885760" cy="1290600"/>
            <a:chOff x="2981160" y="4195800"/>
            <a:chExt cx="2885760" cy="1290600"/>
          </a:xfrm>
        </p:grpSpPr>
        <p:sp>
          <p:nvSpPr>
            <p:cNvPr id="234" name=""/>
            <p:cNvSpPr/>
            <p:nvPr/>
          </p:nvSpPr>
          <p:spPr>
            <a:xfrm flipH="1">
              <a:off x="3565080" y="4209840"/>
              <a:ext cx="2301840" cy="93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65080" y="420984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81160" y="4534560"/>
              <a:ext cx="2301840" cy="93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920" y="4218480"/>
              <a:ext cx="0" cy="9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37880" y="5153760"/>
              <a:ext cx="329040" cy="18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11440" y="5282280"/>
              <a:ext cx="32868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283360" y="4218480"/>
              <a:ext cx="583560" cy="331920"/>
              <a:chOff x="5283360" y="4218480"/>
              <a:chExt cx="583560" cy="33192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5537880" y="421848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283360" y="436392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237120" y="51537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003120" y="52995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006000" y="4195800"/>
              <a:ext cx="583560" cy="331920"/>
              <a:chOff x="3006000" y="4195800"/>
              <a:chExt cx="583560" cy="3319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260520" y="419580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006000" y="434124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faces, 8 vertices, 12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219400"/>
            <a:ext cx="732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is pattern continu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next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, 6, 12, 24…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828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6765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issing number in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7, 52, 50, ___, 43, 38, 36, 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97440" y="3497400"/>
            <a:ext cx="1579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1857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the rule us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ate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, 22, 17, 27, 22, 32, 27,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ILY D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2080" y="4781520"/>
            <a:ext cx="10922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57640" y="4621320"/>
            <a:ext cx="1094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4880" y="3854520"/>
            <a:ext cx="1092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4080" y="228600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btract 10 and add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00" y="1901880"/>
            <a:ext cx="88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this pattern continues, how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ocks are needed to build the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ig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96252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123CountingTiles2"/>
                <a:ea typeface="123CountingTiles2"/>
              </a:rPr>
              <a:t>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1852560"/>
            <a:ext cx="790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680" y="1936800"/>
            <a:ext cx="93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all the factors of 24?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2055960"/>
            <a:ext cx="899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value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equ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12 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1880" y="3568680"/>
            <a:ext cx="12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33840" y="4572000"/>
            <a:ext cx="1217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4800600"/>
            <a:ext cx="79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905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1080" y="152388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degrees warmer was i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dnesday than on Thurs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83400" y="198108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0 deg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43200" y="367200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38680" y="367200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147492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ie will spin each spinner once. What is the total number of different outcomes of a color and a number that ca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52880" y="236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8493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lf of Jason’s class received 80 on a math quiz, one quarter of the class received 75, and one-quarter received 9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mode of the class sc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6680" y="2438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6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04920" y="1600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range, mean and medi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following test sco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5, 100, 75, 100,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4197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25040" y="1882800"/>
            <a:ext cx="364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 –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di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4160" y="1981080"/>
            <a:ext cx="60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6, 8, 12,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057400"/>
            <a:ext cx="906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oll 2 dice and then add them, what sum has the b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of occurr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380880" y="1981080"/>
            <a:ext cx="9982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36 possibilities render the sum of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2007 PSS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Grade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m R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tain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sures each member has a turn and decides when team mates take their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r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am member watches the clock to make sure the other teams do not exceed the 30 second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re Keeper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eam member keeps track of the points ear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cial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ontestant answers incorrectly, no points are sc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ntestant does not answer in 30 seconds, he/she may choose to ask a team mate for help, if this option is chosen then only half of the points are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09480" y="2241720"/>
            <a:ext cx="1036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rime numbers are there greater than 60 and less than 70?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240" y="2209680"/>
            <a:ext cx="24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1 and 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und the quotient to the nearest tenth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5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228600" y="1828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3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dsd</cp:lastModifiedBy>
  <dcterms:modified xsi:type="dcterms:W3CDTF">2011-03-08T20:16:33Z</dcterms:modified>
  <cp:revision>73</cp:revision>
  <dc:subject/>
  <dc:title>Blank Jeopardy</dc:title>
</cp:coreProperties>
</file>